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233-BFB7-447A-9316-511A3A04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6BB-1C6C-4BAB-A3FF-E23555B6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620-0DC8-4F56-B149-8B12DAE1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3E6-2150-4D46-970D-FED653EA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F841-73A2-40C7-A647-6767D49D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F12C-E4E2-4492-A91E-E76692F5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0AED-8EEF-437D-9A90-1E7BEF71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28FD-BEDC-4522-AC0E-ADEAE045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D118-27F7-44BF-BFDA-BD436A86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47C7-A108-41F8-A9AA-9D388142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11BC-7405-47F2-AC7C-55443F5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1E1-8B79-432D-A906-7CAFC359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DC72-A354-46C1-A104-7657271C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7B87-8512-482B-B6FC-0AB0081A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B5D0-1B83-4EA9-BC3B-0DED892F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D1AC-3D5F-45A5-BA8F-AF157180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337-A38B-44CC-BF83-862541A0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9CEAC-CD5C-45C6-9DE5-989CC841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CA108-C935-456E-872E-2D621AD2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9A365-627B-461D-983D-BF3D2B60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D477B-6FE3-42A2-BA58-4B39D860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6A9A0-B8C5-4F21-AC85-D7786F5D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A5C-E463-4735-B6F4-2FA10B93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F936D-E4CC-4719-91D8-B7F9EC12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0D911-4CAE-42BB-820F-2FADD3C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5A05B-40E1-4890-A188-3DE4CC6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59F16-B48F-4DC0-8040-59CF3EDC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35114-F47E-4025-BB8C-7D88194A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B1B23-570B-4B54-A720-1C85731A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EF3EE-E45A-4FF0-B8E2-B87AF2E5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A504-F7CC-4E88-99F0-E83A6769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68CF2-F692-4022-9B4E-390A04B7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7D540-1442-459F-8D6D-9BE73C33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00A-1086-4376-8B27-53ACAE85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1C2F5-8F5C-4E40-AA1E-B799EB4C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11E33-853A-4CBC-83CE-ADCD7916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7031-4B57-461E-A886-048D3DC4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D688A-578E-4DF8-A164-CE9C3F99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287B6-C253-4F9A-A7DA-019B88E6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0A398-FAFD-4CE0-8BFB-363995D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7DC4-783F-4D9D-9528-D88C8638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37F9A-58A5-4F15-A9B1-A86E2896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7EA8-25D2-44D6-A730-43ED0C59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C1FF8-5D2F-4E6D-BD56-D4E6E35E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066-3050-4EB5-8BBD-33A41A50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14FC1-C2B9-40E4-B813-EE7E8E62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9E127-BBB9-42CE-8031-BB64AE15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6272D-C980-45A6-AC9C-56DD973C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C7782-D382-43B5-B7F2-D7466B40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31F89-A432-4D43-9063-AB92604E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4B2F1-1E3A-4BD8-896E-697E4954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5EE29-5105-4D64-97D3-FD9927EA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82287-ABBB-4CBD-BDCB-51292F8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0E113-85EA-4253-BDE7-1B1B603E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8CBBC-5746-4DF9-829E-BB1EB302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8A8-10B5-47D3-99E4-45DA97C4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8E4F7-2E37-48AF-9C75-C2FA33B8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608674-C6AB-4735-8C76-DA3E4621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BD14D-D5F9-460F-AED7-BFA36990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46278-29C1-40B0-A871-785A7E18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CF180-118E-4655-977B-AE264E72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8E46E-3CA9-44B5-A7A2-A1616C58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4EC97-F83F-4AD9-AC47-FD26AA56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3CEC8-98CC-486A-8D88-45FC323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F60B6-2918-49F2-8475-D5464506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40ADD-AB92-4CC0-9C74-D6BBAA5F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724-779D-41AC-97C5-6BAF091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B7CD5-4F90-40F2-B74E-D13F3735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C6438-ED91-4B01-BCD1-BAAF2504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2924E-382F-425A-B93B-649E7C55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3B9C7-320E-4A11-8BE2-920134BE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798D4-1E1E-4DEC-A288-B51750EC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3CFC5-DB14-4188-BE86-CB7F62C7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45419-B90C-45AB-A8F7-13735268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ABBC8-2CD8-4A9E-8B9A-E272BEE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45893-E920-41B7-97B5-6AC5DA90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876A9-0D2C-4E67-A408-BA3F3B4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922-7EAF-4847-A6C3-AA33CA2A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CA355-AFF4-4A96-A4BB-4535A0AE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51D70-D9FB-43FE-A061-2A6D9403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AB085-261F-45B4-AEA8-994FBBAE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98736-B189-47EA-A193-15D60EFC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4DF51-2DF2-4C29-BCB6-8A6333CA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CC7-17E5-4C93-ACF5-E1CF4039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6F47-AC75-4C51-B8C6-5A5E2DBECD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50F-FA42-4279-AA78-8155560FF0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329A-75F0-4E1A-A67F-E42E135639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0A11-12A9-4230-B2FE-4EC4316527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48C7-7A66-4FBC-B067-7BA6832A66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474C-665C-4700-A45E-BA18B6D34F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A462-9774-4D3E-81D3-5AD55D4214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9000" y="1213920"/>
            <a:ext cx="5105520" cy="28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MĂ NUMESC BĂLAIE DORA REBECA ; AM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17</a:t>
            </a: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ANI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SUNT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ELEVA IN CLASA A XI D LA LICEUL TEORETIC ION AGARBICEANU ;PROFIL FILOLOGIE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br>
              <a:rPr sz="1800"/>
            </a:b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ÎMI PLACE GEOGRAFIA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LIMBA SI LITERATURA ROMÂNĂ ŞI ENGLEZA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br>
              <a:rPr sz="1800"/>
            </a:b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ÎN TIMPUL LIBER ÎMI PLACE SĂ CITESC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 SĂ MĂ PLIMB ÎN AER LIBER ŞI SĂ MĂ UIT LA FILME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2214720" y="1428840"/>
            <a:ext cx="600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ă numesc Bălaie Dora Rebeca. Am 17 ani şi învăţ la Liceul Teoretic ,,Ion Agârbiceanu” din Jibou,la profilul filolog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ntre materii îmi plac Limba şi Literatura Română,Geografia şi Eng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 timpul liber mă relaxez citind cărţi,vizionând filme-în special comedii-şi ieşind cu prietenii m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ot spune despre mine că sunt o fire blândă,răbdătoare şi calmă.Îmi place să-i ajut pe ceilalţi,dar şi să-i ascult şi să le dau sfat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6:19:37Z</dcterms:created>
  <dc:creator> </dc:creator>
  <dc:description/>
  <dc:language>en-US</dc:language>
  <cp:lastModifiedBy>ACASA-E8D545838</cp:lastModifiedBy>
  <dcterms:modified xsi:type="dcterms:W3CDTF">2011-10-19T20:28:31Z</dcterms:modified>
  <cp:revision>2</cp:revision>
  <dc:subject/>
  <dc:title>Mă numesc Bălaie Dora Rebeca ; am 17ani .Sunt eleva in clasa a XI D la Liceul Teoretic Ion Agarbiceanu ;profil filologie . Îmi place geografia ,limba si literatura română şi engleza . În timpul liber îmi place să citesc , să mă plimb în aer liber şi să mă uit la filme . </dc:title>
</cp:coreProperties>
</file>